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P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C7A636-8A66-4128-BF44-0A03738127F3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507AA9-8B90-468D-A48F-0B6C30CD549A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C531AE-47ED-476A-98BA-88FC342DB557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95CEDC-CD95-408A-93F0-BF66EB7C1ED4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598679-4180-44A0-B5AB-F4CD3688EF7B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BF2297-660A-4289-9ABA-A283A472CA1C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177188-B1CB-4DAC-9CDA-0834F1F33915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D8B195-0686-46B5-83CE-93183F448ABF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3990FA-2F60-4383-8430-7B02F588B656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8377F2-17B9-43A2-805C-06BB66B5511C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B118-CB48-4B67-8A8E-986C1AE014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FF56-6C87-4820-8BFA-1563BED8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4732-FEB2-4C48-9C78-7AD40DD7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CCA3-D130-4520-985E-A1A8998A27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01DB-1B5F-416F-8270-E6459B40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50106-C348-4F0F-9CDA-58789C6D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8D6D-5337-46C9-A0CF-BE73426B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5C3B-DF24-4EA6-86DB-200631B9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A12F8-8BE2-40AC-8D33-A767CF3F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6D3E4-34AA-4809-A2FC-80F351DC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1EDF-58A8-439B-BC6D-7376145B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E747-903E-44D3-9B54-D5FB543A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9BFDD9-F128-4AA2-BC82-6C34699BFCE9}" type="slidenum">
              <a:rPr b="0" lang="en-P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coachmath.com/math_dictionary/pattern.html" TargetMode="External"/><Relationship Id="rId2" Type="http://schemas.openxmlformats.org/officeDocument/2006/relationships/hyperlink" Target="http://encyclopedia2.thefreedictionary.com/Sequence+(mathematics)" TargetMode="External"/><Relationship Id="rId3" Type="http://schemas.openxmlformats.org/officeDocument/2006/relationships/hyperlink" Target="http://mathdude.quickanddirtytips.com/what-is-a-mathematical-series.asp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Patterns in Sequences and Se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72428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898989"/>
                </a:solidFill>
                <a:latin typeface="Calibri"/>
              </a:rPr>
              <a:t>Second year High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898989"/>
                </a:solidFill>
                <a:latin typeface="Calibri"/>
              </a:rPr>
              <a:t>Intermediate Alge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898989"/>
                </a:solidFill>
                <a:latin typeface="Calibri"/>
              </a:rPr>
              <a:t>Ms. Virna Gumia – January 10,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o understand patter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o be able to do own patter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o enrich knowledge about Mathemat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What is a Patter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A Pattern constitutes a set of numbers or objects in which all the members are related with each other by a specific r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3505320"/>
            <a:ext cx="4991040" cy="2857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Calibri"/>
              </a:rPr>
              <a:t>Example of Patter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e above pattern contains 2 identical groups with each group having 3 different images, a star followed by a bar, which is followed by 3 do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953240" cy="1219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What is a Sequen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Calibri"/>
              </a:rPr>
              <a:t>sequence,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 in mathematics, ordered set of mathematical quantities called terms. A sequence is said to be known if a formula can be given for any particular term using the preceding terms or using its position in the sequ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4476960" cy="230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Example of Sequen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e sequence 1, 1, 2, 3, 5, 8, 13,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(the Fibonacci sequence) is formed by adding any two consecutive terms to obtain the next ter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e sequence − 1-2, 1, 7-2, 7, 23-2, 17, … is formed according to the formula (</a:t>
            </a:r>
            <a:r>
              <a:rPr b="0" i="1" lang="en-PH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PH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 − 2)/2 for the </a:t>
            </a:r>
            <a:r>
              <a:rPr b="0" i="1" lang="en-PH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, or general, term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81480" y="3238560"/>
            <a:ext cx="3562560" cy="361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What is a Ser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Well, a series in math is simply the sum of the various numbers, or elements of a sequ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A mathematical series is simply the sum of the elements of a mathematical sequ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Example of Seri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o make a series from the sequence of the first five positive integ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1, 2, 3, 4, 5, just add them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So, 1 + 2 + 3 + 4 + 5 = 15 is a se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is series is made from a </a:t>
            </a:r>
            <a:r>
              <a:rPr b="1" lang="en-PH" sz="3200" spc="-1" strike="noStrike">
                <a:solidFill>
                  <a:srgbClr val="000000"/>
                </a:solidFill>
                <a:latin typeface="Calibri"/>
              </a:rPr>
              <a:t>finite sequence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—and therefore </a:t>
            </a:r>
            <a:r>
              <a:rPr b="0" i="1" lang="en-PH" sz="3200" spc="-1" strike="noStrike">
                <a:solidFill>
                  <a:srgbClr val="000000"/>
                </a:solidFill>
                <a:latin typeface="Calibri"/>
              </a:rPr>
              <a:t>contains a finite number of terms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—it’s what’s called a finite se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Referenc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icoachmath.com/math_dictionary/pattern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encyclopedia2.thefreedictionary.com/Sequence+(mathema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http://mathdude.quickanddirtytips.com/what-is-a-mathematical-series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00:05:48Z</dcterms:created>
  <dc:creator>virna</dc:creator>
  <dc:description/>
  <dc:language>en-US</dc:language>
  <cp:lastModifiedBy>virna</cp:lastModifiedBy>
  <dcterms:modified xsi:type="dcterms:W3CDTF">2012-10-01T00:58:27Z</dcterms:modified>
  <cp:revision>6</cp:revision>
  <dc:subject/>
  <dc:title>Patterns in Sequences and Series</dc:title>
</cp:coreProperties>
</file>